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7308-2A5A-4EBE-BA09-C34D76313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FE90-0DAA-410D-B943-33301E0C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4522-C812-4CE3-B8FB-C1D57028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2267-680C-47FA-B75D-EBD52C71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F189-1CCA-4648-B8AE-E17C36FC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7F54-FF60-421B-B3B9-8BB0D460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1536-578C-4F7E-8B06-0EA9BC05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1FAA-810F-4727-9C2E-1CABAB77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24E0-CAD6-4C56-A5B2-50AB3670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37B9-33A6-4E3A-84C9-50E483D8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7C2A-7500-4BDB-9E8A-5D63A0EB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FC9C-358E-422C-8FC5-243969B1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7165-B829-4446-AC0E-FE0B59C8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BEE3-55C0-4275-82CB-8347A256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85E6-0B8F-403E-AE20-0F71BE5A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0359-FDBC-4841-87A7-155B9AF9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7680-EB47-477B-9BCF-18EE9CEE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5BBC-2EA9-4709-BFF9-8063942D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D309-5AF5-4A57-A4B8-6DFA998F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0107-5791-4C81-BA00-A7F3FB5C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8558-39F8-46A5-B698-BAFDAA13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C428-C95D-4024-9355-FCDB6CD1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763E-60CC-448F-A65D-55D857B0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9405-D6AF-41BF-837C-75DC2023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F394-D48D-4C22-A441-E56B68A229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1B34-DABA-4B64-BC45-54072CA3CB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32000" y="203364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UŁAMKI NA 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OSI LICZBOWE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6280" y="81900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Zaznacz na osi liczbowej punkt A o współrzędne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767720" y="638280"/>
                <a:ext cx="2714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97" name=""/>
          <p:cNvGraphicFramePr/>
          <p:nvPr/>
        </p:nvGraphicFramePr>
        <p:xfrm>
          <a:off x="1827360" y="2933640"/>
          <a:ext cx="5433840" cy="1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2933640"/>
                    <a:ext cx="5433840" cy="1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878280" y="3068640"/>
                <a:ext cx="2444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851280" y="256716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306216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306216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06640" y="4419720"/>
            <a:ext cx="517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anowni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łamka wskazuje na ile części należy podzielić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odcinek jednostkow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czni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atomiast jaka jest odległość punktu od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ze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1600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CHEMAT ZAZNACZANIA UŁAMKÓW NA OSI LICZBOWE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6280" y="113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0920" y="1397160"/>
            <a:ext cx="30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Rysujemy oś liczbow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1808280"/>
            <a:ext cx="51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Zaznaczamy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unkt 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odcinek jednostk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2214720"/>
            <a:ext cx="73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Odcinek jednostkowy dzielimy na tyle części ile jest zapisane w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anownik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 tym przypadku mamy podzielony odcinek jednostkowy na 6 czę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3159000"/>
            <a:ext cx="67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Zaznaczamy ułamek na osi liczbowej zaznaczamy 5 części tak jak mówi nam o ty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czni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łam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646280" y="4915080"/>
          <a:ext cx="5433840" cy="14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4915080"/>
                    <a:ext cx="5433840" cy="14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411280" y="508788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3080" y="508788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157720" y="5049720"/>
                <a:ext cx="2444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59:26Z</dcterms:modified>
  <cp:revision>41</cp:revision>
  <dc:subject/>
  <dc:title>Slajd 1</dc:title>
</cp:coreProperties>
</file>